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0AC-9E6C-4A69-AEA7-EE4D7639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29B-F940-444E-8F65-21D4558E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F32-1B38-4DDE-AB26-B7CC8D53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6BF-5354-4768-8FA1-E7A03B68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23A-843E-4876-874B-28D20307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7C8-646D-4403-99EF-C9E198BD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A23-B651-4AA9-96F5-F4CC090A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49B-55B5-462E-8A1C-52BBFB63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579-0C7C-45DE-900F-884C30BE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C45-9F03-4F61-B5DD-006A0C76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1F2-43A1-446A-9205-F7C79FB4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A28-7CD0-49A7-A9B2-F0E6D063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3203-492B-4B90-BB96-F2AAE2D39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casa para La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asa es muy grande. La casa tiene mucho cuartos. Los cuartos es en la planta baja y primer piso.  La casa tiene mucho banos tambien. El bano es en la planta baja y primer piso.  La casa cuesta $3,000,000. La casa esta en la calle Franklin. La casa esta localizada en Aruba.La casa tiene cuatro pisos. Me gusta la casa. La casa es muy luj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9680" y="58672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Kaitlin Carson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4343400"/>
            <a:ext cx="792504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comedor es muy grande. La casa tiene dos comedors. El comedor es muy nuevo. El comedor es bonita tam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la de tel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 sala de television es muy grande. La casa tiene dos sala de televisions. La sala es muy lujosa. Tiene uno televisi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 Pis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47239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 Piscina es muy grande. La casa tiene dos piscinas. Uno Piscina en la yarda. La Piscina es muy bel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El Pas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1960" y="54097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El Pasillo es muy bonita. El Pasillo es grande. La casa tiene dos pasil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coci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33360" y="5257800"/>
            <a:ext cx="52578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La cocina es muy grande. Es muy impresionante. La casa tiene uno coci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Arial"/>
              </a:rPr>
              <a:t>El s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78487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El salon es muy bonita. El salon es el cuarto de sol tambi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El Terra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51814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Terraza es moderno. El terraza es muy lujosa y bell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asa tiene uno terra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5105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ano es muy grande y lujoso. Es moderno. La casa tiene seis b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cuarto de 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51055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cuarto de bano es muy fantistico. La casa tiene seis banos. El bano tiene mucho s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l Por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l porche es muy incredible. El porche es muy nuevo. La casa tiene uno el por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El cu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09320" y="5028840"/>
            <a:ext cx="4800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l cuarto es muy lujoso. El cuarto es muy muy bello. En la clase tiene siete cuar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6:57:48Z</dcterms:created>
  <dc:creator>carsonkai</dc:creator>
  <dc:description/>
  <dc:language>en-US</dc:language>
  <cp:lastModifiedBy>carsonkai</cp:lastModifiedBy>
  <dcterms:modified xsi:type="dcterms:W3CDTF">2012-05-22T13:21:40Z</dcterms:modified>
  <cp:revision>4</cp:revision>
  <dc:subject/>
  <dc:title>La casa para La Venta</dc:title>
</cp:coreProperties>
</file>